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E2A-00D6-46C9-A853-46B9EEF2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F70-A1F7-4CA5-B592-FDD1B135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Hanson               Red River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9EFF-FF93-40D8-90B0-56C4EDCA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37A-989B-4819-87DE-5999BCB8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74C-0613-4DA7-B154-28067C16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40E-0D0F-4CE0-BEC8-783C3866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4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4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001-D763-4F56-AAAF-B2FE23B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6136-6819-48E5-8E51-A1EC07F0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6EF5-23B1-465E-9BDF-50060D2C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6161-A8A7-4720-AA26-BC4525B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3FA0-0F17-42B1-8C5D-8943DEB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B71D-0180-4839-9DCC-AC46B85D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075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53B1-59EC-4A50-9AD6-E409DB80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241-8306-4294-9B65-CB86D5D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143-F0F8-4748-802A-32CAB14B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F70-0C63-4C8B-9862-91DC1EC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260-C963-4402-B923-B7F21ED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A585-5B85-4C62-A996-8C31C4E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69C9-B301-4C38-A614-DAFB7B1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0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440" y="126792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0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2440" y="4127040"/>
            <a:ext cx="27392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92B3-8D32-4BAE-8240-EC99522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C7F-5C77-4046-AEAA-18221D5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34C-6874-4D50-9D91-48FA8E7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436-7B7C-499D-B761-B725CE4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5075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186-9F09-4A7E-BF40-0B68C14A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2E2-A69D-4C30-9496-0D6288E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8880" y="412704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186-9596-424D-AAE3-67DBF90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8880" y="1267920"/>
            <a:ext cx="4151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127040"/>
            <a:ext cx="85075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363-15FB-4AE1-BD95-A287CEC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8F5-FF08-4B19-9F4B-00B33555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6779-DA7F-48B8-BF02-9DE4C47D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cstyles.com/mlaguide.ht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v.mb.ca/finance/fedprov/odour.html" TargetMode="External"/><Relationship Id="rId3" Type="http://schemas.openxmlformats.org/officeDocument/2006/relationships/hyperlink" Target="http://me.rrc.mb.ca/Catalogue/Default.aspx?Link=Programs.asp?DeliveryCode=F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c11ce"/>
                </a:solidFill>
                <a:latin typeface="Arial"/>
              </a:rPr>
              <a:t>MLA Style in Reports</a:t>
            </a:r>
            <a:endParaRPr b="0" lang="en-US" sz="48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00"/>
                </a:solidFill>
                <a:latin typeface="Arial"/>
              </a:rPr>
              <a:t>Formatting Works Cite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File"/>
          <p:cNvSpPr/>
          <p:nvPr/>
        </p:nvSpPr>
        <p:spPr>
          <a:xfrm>
            <a:off x="6934320" y="5486400"/>
            <a:ext cx="2057400" cy="981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600"/>
                </a:solidFill>
                <a:latin typeface="Symbol"/>
                <a:ea typeface="Symbol"/>
              </a:rPr>
              <a:t></a:t>
            </a:r>
            <a:r>
              <a:rPr b="0" lang="en-US" sz="1600" spc="-1" strike="noStrike">
                <a:solidFill>
                  <a:srgbClr val="ebe600"/>
                </a:solidFill>
                <a:latin typeface="Arial"/>
              </a:rPr>
              <a:t>Les Hanson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Logo1red"/>
          <p:cNvPicPr/>
          <p:nvPr/>
        </p:nvPicPr>
        <p:blipFill>
          <a:blip r:embed="rId2"/>
          <a:stretch/>
        </p:blipFill>
        <p:spPr>
          <a:xfrm>
            <a:off x="152280" y="6095880"/>
            <a:ext cx="373860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3040" y="1981080"/>
            <a:ext cx="873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CD-ROM Citations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iodical CD-ROM data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liland, Steve. “Keeping Track of your Time.” Computer Shopper. Jan. 1994:486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gazine Article Summary. Computer Select CD-ROM. Aug. 1994, item 802 174 190 021 000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Electronic Databases (Ebsco)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, First Name. “Title of the Article.” Journal Title. Volume.Issue # (Publication Date): pages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ademic Search Premier. EBSCOhost. Library Name, City, Province. Date accessed &lt;http://search.epnet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Minn, John. “Mainstreaming Green.”Canadian Architect. 48.1 (Jan 2003): 14-19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ademic Search Premier. EBSCOhost. Red River College Library, Winnipeg, MB. 1 Nov. 2004 &lt;http://search.epnet.com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ources for this Presentation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3111480"/>
            <a:ext cx="850752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. Abe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ibe, PhD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 MLA Web Sheet: A Brief Guide to Referencing Internet Sour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 Oct. 2004. Dec. 2004 &lt;</a:t>
            </a:r>
            <a:r>
              <a:rPr b="0" lang="en-US" sz="2800" spc="-1" strike="noStrike" u="sng">
                <a:solidFill>
                  <a:srgbClr val="00dbd6"/>
                </a:solidFill>
                <a:uFillTx/>
                <a:latin typeface="Arial"/>
                <a:hlinkClick r:id="rId2"/>
              </a:rPr>
              <a:t>http://www.docstyles.com/mlaguide.ht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gt;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776680" y="1484280"/>
            <a:ext cx="4532040" cy="1360440"/>
          </a:xfrm>
          <a:prstGeom prst="borderCallout1">
            <a:avLst>
              <a:gd name="adj1" fmla="val 18750"/>
              <a:gd name="adj2" fmla="val -8333"/>
              <a:gd name="adj3" fmla="val 127069"/>
              <a:gd name="adj4" fmla="val -1120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While this appears to be the author’s name, it is actually a fictional name that is the name of of the web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332000" y="5445000"/>
            <a:ext cx="1500120" cy="865440"/>
          </a:xfrm>
          <a:prstGeom prst="borderCallout1">
            <a:avLst>
              <a:gd name="adj1" fmla="val 18750"/>
              <a:gd name="adj2" fmla="val -8333"/>
              <a:gd name="adj3" fmla="val -123120"/>
              <a:gd name="adj4" fmla="val -751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924360" y="5445000"/>
            <a:ext cx="1201680" cy="827280"/>
          </a:xfrm>
          <a:prstGeom prst="borderCallout1">
            <a:avLst>
              <a:gd name="adj1" fmla="val 18750"/>
              <a:gd name="adj2" fmla="val -8333"/>
              <a:gd name="adj3" fmla="val -125912"/>
              <a:gd name="adj4" fmla="val -8481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cces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6012000" y="544500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78125"/>
              <a:gd name="adj4" fmla="val -10104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Look It Up!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This covers only a small sample of bibliographic e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omplete information is available in style guides or your textbook’s append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eyer 336-3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hill, Bovee, and Cross 575-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5760" y="337680"/>
            <a:ext cx="7258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Direct Quotations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parenthetical references to show information obtained from other sour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author’s name and the page number after the referenc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receiving an editorial comment about ending a sentence with a preposition, Winston Churchill was reported to have said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sort of pedantry up with which I will not put” (Halle 16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4572000" y="5734080"/>
            <a:ext cx="2374920" cy="538200"/>
          </a:xfrm>
          <a:prstGeom prst="borderCallout2">
            <a:avLst>
              <a:gd name="adj1" fmla="val 18750"/>
              <a:gd name="adj2" fmla="val -8333"/>
              <a:gd name="adj3" fmla="val 21240"/>
              <a:gd name="adj4" fmla="val -10495"/>
              <a:gd name="adj5" fmla="val -32745"/>
              <a:gd name="adj6" fmla="val -17782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&amp; pag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Paraphrasing Information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Paraphrasing information is usually preferable to quo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ch of the deterioration of the Titanic is caused by visitors (Ballard 108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llard argues that much of the deterioration of the Titanic is caused by visitors (108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000680" y="3429000"/>
            <a:ext cx="3308040" cy="503280"/>
          </a:xfrm>
          <a:prstGeom prst="borderCallout1">
            <a:avLst>
              <a:gd name="adj1" fmla="val 18750"/>
              <a:gd name="adj2" fmla="val -8333"/>
              <a:gd name="adj3" fmla="val -23657"/>
              <a:gd name="adj4" fmla="val -1108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and pag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179360" y="5373720"/>
            <a:ext cx="3816360" cy="863640"/>
          </a:xfrm>
          <a:prstGeom prst="borderCallout1">
            <a:avLst>
              <a:gd name="adj1" fmla="val 18750"/>
              <a:gd name="adj2" fmla="val -8333"/>
              <a:gd name="adj3" fmla="val -23347"/>
              <a:gd name="adj4" fmla="val 114893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List only the page number if the  author’s name has been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11ce"/>
                </a:solidFill>
                <a:latin typeface="Arial"/>
              </a:rPr>
              <a:t>Information from the Internet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 from the Internet must be ci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author is unknown, use a shortened version of the title in the parenthetical referenc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River College has more than 100 full-time programs (Admissions at RR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c11ce"/>
                </a:solidFill>
                <a:latin typeface="Arial"/>
              </a:rPr>
              <a:t>Common Knowledge</a:t>
            </a:r>
            <a:endParaRPr b="0" lang="en-US" sz="40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Information that could be found in a number of sources does not require a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itanic struck an iceberg and sank in 19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788000" y="3068640"/>
            <a:ext cx="3163680" cy="60948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-22879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No referenc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Works Cited Page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Include full bibliographic information at the end of your pap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Call this page “Works Cited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Entries should be arranged alphabetically by authors’ last nam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Format the entries with a hanging indent (outden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Entry for a Book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3440" y="2287440"/>
            <a:ext cx="79833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lle, Kay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Irrepressible Churchill: Stories, Sayings and Impressions of Sir Winston Churchil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London: Robson Books, 1987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419200" y="1628640"/>
            <a:ext cx="1008360" cy="403200"/>
          </a:xfrm>
          <a:prstGeom prst="borderCallout1">
            <a:avLst>
              <a:gd name="adj1" fmla="val 18750"/>
              <a:gd name="adj2" fmla="val -8333"/>
              <a:gd name="adj3" fmla="val 185435"/>
              <a:gd name="adj4" fmla="val -5842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667640" y="1557360"/>
            <a:ext cx="1289160" cy="792000"/>
          </a:xfrm>
          <a:prstGeom prst="borderCallout1">
            <a:avLst>
              <a:gd name="adj1" fmla="val 18750"/>
              <a:gd name="adj2" fmla="val -8333"/>
              <a:gd name="adj3" fmla="val 115027"/>
              <a:gd name="adj4" fmla="val -6798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Title and 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7451640" y="4508640"/>
            <a:ext cx="1381320" cy="792000"/>
          </a:xfrm>
          <a:prstGeom prst="borderCallout1">
            <a:avLst>
              <a:gd name="adj1" fmla="val 18750"/>
              <a:gd name="adj2" fmla="val -8333"/>
              <a:gd name="adj3" fmla="val -82763"/>
              <a:gd name="adj4" fmla="val -2505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sh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843280" y="4292640"/>
            <a:ext cx="2411280" cy="403200"/>
          </a:xfrm>
          <a:prstGeom prst="borderCallout1">
            <a:avLst>
              <a:gd name="adj1" fmla="val 18750"/>
              <a:gd name="adj2" fmla="val -8333"/>
              <a:gd name="adj3" fmla="val -125199"/>
              <a:gd name="adj4" fmla="val 114745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City wher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68360" y="465300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-54523"/>
              <a:gd name="adj4" fmla="val 14785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473480" y="5661000"/>
            <a:ext cx="70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periods to separate th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Journal Article Entry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2080" y="2585520"/>
            <a:ext cx="779472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Ballard, Robert D. “Why is Titanic Vanishing?” 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</a:rPr>
              <a:t>National Geographic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 206.6 (2004): 96-11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776680" y="1730520"/>
            <a:ext cx="1074600" cy="474480"/>
          </a:xfrm>
          <a:prstGeom prst="borderCallout1">
            <a:avLst>
              <a:gd name="adj1" fmla="val 18750"/>
              <a:gd name="adj2" fmla="val -8333"/>
              <a:gd name="adj3" fmla="val 206018"/>
              <a:gd name="adj4" fmla="val -5406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740720" y="1916280"/>
            <a:ext cx="1224000" cy="936360"/>
          </a:xfrm>
          <a:prstGeom prst="borderCallout1">
            <a:avLst>
              <a:gd name="adj1" fmla="val 18750"/>
              <a:gd name="adj2" fmla="val -8333"/>
              <a:gd name="adj3" fmla="val 117120"/>
              <a:gd name="adj4" fmla="val -4773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Journal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5364000" y="1628640"/>
            <a:ext cx="1511640" cy="609840"/>
          </a:xfrm>
          <a:prstGeom prst="borderCallout1">
            <a:avLst>
              <a:gd name="adj1" fmla="val 18750"/>
              <a:gd name="adj2" fmla="val -8333"/>
              <a:gd name="adj3" fmla="val 160416"/>
              <a:gd name="adj4" fmla="val -3844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rticl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012000" y="4005360"/>
            <a:ext cx="1585800" cy="863640"/>
          </a:xfrm>
          <a:prstGeom prst="borderCallout1">
            <a:avLst>
              <a:gd name="adj1" fmla="val 18750"/>
              <a:gd name="adj2" fmla="val -8333"/>
              <a:gd name="adj3" fmla="val -42648"/>
              <a:gd name="adj4" fmla="val 12482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Volume # and Issue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627280" y="4941720"/>
            <a:ext cx="1008000" cy="505080"/>
          </a:xfrm>
          <a:prstGeom prst="borderCallout1">
            <a:avLst>
              <a:gd name="adj1" fmla="val 18750"/>
              <a:gd name="adj2" fmla="val -8333"/>
              <a:gd name="adj3" fmla="val -139620"/>
              <a:gd name="adj4" fmla="val 115907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39640" y="4581360"/>
            <a:ext cx="1150920" cy="505080"/>
          </a:xfrm>
          <a:prstGeom prst="borderCallout1">
            <a:avLst>
              <a:gd name="adj1" fmla="val 18750"/>
              <a:gd name="adj2" fmla="val -8333"/>
              <a:gd name="adj3" fmla="val -94967"/>
              <a:gd name="adj4" fmla="val 137101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c11ce"/>
                </a:solidFill>
                <a:latin typeface="Arial"/>
              </a:rPr>
              <a:t>Sample Web Page Entry</a:t>
            </a:r>
            <a:endParaRPr b="0" lang="en-US" sz="4400" spc="-1" strike="noStrike">
              <a:solidFill>
                <a:srgbClr val="0c11c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507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nce of Manitoba.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Odour-control Tax Credit In Place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5 Dec. 2004. 15 Dec. 2007 &lt;</a:t>
            </a:r>
            <a:r>
              <a:rPr b="0" lang="en-US" sz="3200" spc="-1" strike="noStrike" u="sng">
                <a:solidFill>
                  <a:srgbClr val="00dbd6"/>
                </a:solidFill>
                <a:uFillTx/>
                <a:latin typeface="Arial"/>
                <a:hlinkClick r:id="rId2"/>
              </a:rPr>
              <a:t>http://www.gov.mb.ca/finance/fedprov/odour.htm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86000" y="1197000"/>
            <a:ext cx="2928960" cy="446040"/>
          </a:xfrm>
          <a:prstGeom prst="borderCallout1">
            <a:avLst>
              <a:gd name="adj1" fmla="val 18750"/>
              <a:gd name="adj2" fmla="val -8333"/>
              <a:gd name="adj3" fmla="val 166601"/>
              <a:gd name="adj4" fmla="val -29347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uthor (gov’t bra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5929200" y="1143000"/>
            <a:ext cx="2016360" cy="434880"/>
          </a:xfrm>
          <a:prstGeom prst="borderCallout1">
            <a:avLst>
              <a:gd name="adj1" fmla="val 18750"/>
              <a:gd name="adj2" fmla="val -8333"/>
              <a:gd name="adj3" fmla="val 186995"/>
              <a:gd name="adj4" fmla="val -2826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857920" y="3429000"/>
            <a:ext cx="1500120" cy="865080"/>
          </a:xfrm>
          <a:prstGeom prst="borderCallout1">
            <a:avLst>
              <a:gd name="adj1" fmla="val 18750"/>
              <a:gd name="adj2" fmla="val -8333"/>
              <a:gd name="adj3" fmla="val -83486"/>
              <a:gd name="adj4" fmla="val -42939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Pub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7572240" y="3429000"/>
            <a:ext cx="1202040" cy="826920"/>
          </a:xfrm>
          <a:prstGeom prst="borderCallout1">
            <a:avLst>
              <a:gd name="adj1" fmla="val 18750"/>
              <a:gd name="adj2" fmla="val -8333"/>
              <a:gd name="adj3" fmla="val -100958"/>
              <a:gd name="adj4" fmla="val -108324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Acces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14800" y="3500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5097"/>
              <a:gd name="adj4" fmla="val -77810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39640" y="494172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missions at R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Red River College, Winnipeg. 15 May 2008. &lt;</a:t>
            </a:r>
            <a:r>
              <a:rPr b="0" lang="en-US" sz="3200" spc="-1" strike="noStrike" u="sng">
                <a:solidFill>
                  <a:srgbClr val="00dbd6"/>
                </a:solidFill>
                <a:uFillTx/>
                <a:latin typeface="Arial"/>
                <a:hlinkClick r:id="rId3"/>
              </a:rPr>
              <a:t>http://me.rrc.mb.ca/Catalogue/Default.aspx?Link=Programs.asp?DeliveryCode=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500200" y="4357800"/>
            <a:ext cx="1857600" cy="609480"/>
          </a:xfrm>
          <a:prstGeom prst="borderCallout1">
            <a:avLst>
              <a:gd name="adj1" fmla="val 18750"/>
              <a:gd name="adj2" fmla="val -8333"/>
              <a:gd name="adj3" fmla="val 123388"/>
              <a:gd name="adj4" fmla="val -6063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Title of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072120" y="4357800"/>
            <a:ext cx="2357640" cy="609480"/>
          </a:xfrm>
          <a:prstGeom prst="borderCallout1">
            <a:avLst>
              <a:gd name="adj1" fmla="val 18750"/>
              <a:gd name="adj2" fmla="val -8333"/>
              <a:gd name="adj3" fmla="val 123388"/>
              <a:gd name="adj4" fmla="val -60638"/>
            </a:avLst>
          </a:prstGeom>
          <a:solidFill>
            <a:srgbClr val="31a98c"/>
          </a:solidFill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Sponsoring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5:39:31Z</dcterms:created>
  <dc:creator>Les Hanson</dc:creator>
  <dc:description/>
  <dc:language>en-US</dc:language>
  <cp:lastModifiedBy>Admin</cp:lastModifiedBy>
  <dcterms:modified xsi:type="dcterms:W3CDTF">2010-11-18T16:58:30Z</dcterms:modified>
  <cp:revision>31</cp:revision>
  <dc:subject/>
  <dc:title>MLA Style</dc:title>
</cp:coreProperties>
</file>